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3E6-A6D7-4F32-8061-26AB2790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85B-EA55-43AF-B7B2-1B677A5F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AC6F7-E2C9-4C78-9646-D52A852C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3CDFE-C3DA-4911-A26D-808CA8E1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389F0-1544-4DD4-86E1-BEE509E7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6A49C-1188-4259-BA18-7226BAA2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1048F-5988-4319-B052-99817CED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CF69F-52B5-4033-87EE-BF20E3AA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4E1A0-418C-4E4D-9D78-743BC239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0A561-1BDD-466F-B910-88536FB1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EF514-8408-4EE0-A179-51C5B7C8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32591-6810-43F8-AB82-31D3D758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50C-17D9-4D00-8F1B-431ADA37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C328E-A2D5-4DFA-B3F2-7E4F61A2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AE54B-FE55-4088-AF0E-CBBA9918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C21D1-B393-43BA-A261-8452FB0C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600E0-4698-4CD5-B227-C34A427A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A3D42-37DE-4277-8034-7C918E0F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ABA1B-37E9-47CC-8409-B91D740B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0C2EC-ACD7-437F-9D28-FC5466CA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C9D03-A4A2-4BE9-91C7-BA5C8BF8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9D41E-BDF8-4DE4-B50E-205955E7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A67E3-4CFE-4F66-B090-556F9F7D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43F-A1FA-43EC-8DE5-7B953F0B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DC6A5-C9A0-4FC0-9477-3AC550A1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D0A46-7477-4623-99AE-6C12A962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33F13-88AE-4410-BD5D-FA3B5EB9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D08D2-CE72-4872-99AC-16AC9764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B0534-9DD1-4D18-92DA-9985D8BF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75B1A-4E1C-491C-BC8A-B5977B66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8F6A1-4ED9-4285-BC7A-433C860F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44422-ED2F-4416-8BE9-78F469D3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89F86-2A72-4991-A41C-C4814751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9C95E-F89F-418C-A8B9-7415CBFD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FBC4-2553-4905-9EC6-A7C9E1CE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D59AB-6777-4548-801A-59FA02C0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F3DD2-A1AB-471C-9E9F-A64D4291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71951-948E-472C-BCCE-C9045FB1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B5145-62A6-4A94-A885-86A2CD9C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25B00-A9A3-4333-BF4B-9687EB33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9B54A-27AB-4B50-AB9B-E610A7F0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3EA33-4924-4B87-8CAC-57F69208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A25B8-79E1-42A2-BCD5-5030B5EE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6EB0A-615D-4756-9A38-4A41F40A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51F70-5BE2-45A5-A5D1-70AC3D6D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0C3C-8647-4F49-A284-99676005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2AD3B-FF10-4135-A50E-37DB9DE6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1775C-9679-49E5-A59D-1D23F2D1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F7409-305D-499B-9C27-5330199D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70AAB-92CE-4521-B01C-C63457C4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CDDC6-7526-4D59-8C30-63879D0F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04E43-BFF0-4B47-BDCE-D6F50590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6FA37-109D-4725-8347-BC4167F5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AFB8B-E93C-4BE8-8B0A-D368864B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5BE31-7B43-467C-9CCC-73F07A98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6881B-882B-4F51-8129-78BDE025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AB2E-8DF3-4697-867B-C858B836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F00F4-8094-4F6D-B6D0-D627E603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F4556-47B9-4989-942F-235B0EE2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52A5D-EEA0-4DB8-9627-2AFD914D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6BCF6-1DB8-47A8-A2E7-94CCE1B4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AD26B-3ED2-4DE7-8C72-FB62EAA2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A22BF-74BB-4B9E-836A-DDB35A8F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44179-90EF-418C-BEF0-707F8A16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978C6-9EEA-41A9-BD27-74A44E5B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ED372-0868-45A2-B12C-CDF12339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0E2C9-C0A4-47B1-B398-206CEE2A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5613-95F2-44A7-83B8-63BA4158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D6CAB-BB70-497A-881A-06F3A578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8A2DC-4155-4AFC-8497-F4ACB5E9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21A93-2EFC-4AFE-853F-E9DF740D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723A9-A871-46C3-84B5-CE93A1BA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DD2DD-A985-4344-B56A-3BE6F472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F150F-8BB4-4E19-8B5F-053DFB96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1BB1E-447E-4F8D-950D-496126CA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D31E8-3202-454A-B038-8C86B3F6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D3A687-5271-46BF-9A05-01AC8AFD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38FF9-4D3A-478D-B916-7E3FE444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DC20-A950-4ED2-8505-C8D3AA9C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E169B5-20F4-45DB-B8BD-E84A96CE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837FA-2829-4743-B086-155D7245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4C07A-8090-4C44-AB07-433A3B77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68E4D-FDCC-4957-8AC9-E498F9A7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0BD51-B1F5-428C-B12A-380A8141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C476C5-9095-43B2-BA7E-2D12607D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8811D-299A-410A-8FAF-03D4754A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0A6A8C-77AD-47C6-BB5E-6967430D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0678FA-6E49-4FF4-B736-2543724D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0317F6-612F-4FB2-82FD-3C94321A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9BE5-A9EC-4079-977A-16E2AD9B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D59EEA-0F80-43BD-974F-B171783E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91C3F-054F-4AA4-AD46-331C6DA8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0A76F-EADF-455E-97D0-B293037F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51E0F-CF00-4E99-AEBF-E9EBB898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23AAFC-B3A3-4608-B8EB-D0A7670B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09044-8A1F-4A82-8AC1-6105BFBA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4E1E36-4F26-49B5-A9AE-464674EC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CD792A-C242-472F-B988-211BD815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08969-82CA-44ED-B9D9-5EF26ADF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D9677C-938E-4889-851F-855BC579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329B-8D2A-4AA8-BBA8-D2376806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0CB186-9278-4CC8-BF7E-43268220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3EC64A-B955-43EA-8133-E438B25D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5BA668-25D8-49E9-AC5A-B5A4B5DC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BCF82F-9195-4BED-A28C-A60BBCF6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3ECAF0-099F-425D-B66D-6869617C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441E2-B91A-4904-82A6-DCB412E6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8E6BC2-3D7B-4E08-9CFB-163EC8AB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AA68D1-ABE6-43E2-A46C-7F719DAF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D461C4-B8AA-4D82-B0A6-1BA46C60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574C7D-CC20-47E1-9828-0774C5FF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E28-A745-4F3C-9706-350335D4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BB0E-8BFA-483D-9C6D-111F2EB9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EF3DD6-8FB2-48A6-B4BF-CDB2A56E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188E31-5BC7-4293-855E-8A1105C8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B8FE9F-3C60-4487-8A68-52E6D402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DC185-3413-4922-A7A8-8DA9818C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076F29-E7F1-4784-BA4F-27343401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8E8945-C1B6-45E7-9073-6A1CD1DC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10B61B-1F87-4966-928D-96D523A2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B7A2B0-F602-42C5-A70A-5FC28C2D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710893-4B29-4B35-9892-9798FB6C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536400-B4B0-4B7D-B38C-ACD7B262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3F2D-E0DA-4F9D-8CA9-CC143EEB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FDD420-8225-4666-9EFC-2C0C2FB3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CE72A-6F19-4B24-A6C1-CFA0841E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1DF8B3-F388-430E-BB52-FDC14958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B718E-27F1-4FD1-9A55-C50CD746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CB2455-9368-4EC4-B4B0-A4D3B10B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FE3A92-AFCD-47AC-ABFB-4AA9A993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F85DA0-B96B-4A88-A8BC-0D9F70E7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6C7D0-E9C2-4263-960F-D904BDE3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B4D99F-DABC-4707-A9BE-39D83BAB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45EC13-5852-4897-AF0A-19B1F4F1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D606-720D-41C9-9CE6-DDFAE81A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F974F5-1497-459D-ADD1-01F6F926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AFF038-8B0D-415E-8E51-96688D1B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F742C2-ED36-4034-B67C-AE664AC1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6A812E-9B86-441F-B943-E437F9E7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230944-8FD4-4116-ACED-0E09DC1F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CA3047-AD4E-45B1-A89E-8ABFFFAE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6D77AB-B879-4235-BA18-DAD3772C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5DC967-44A8-44D9-A758-594752CA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0214D3-447E-4701-B75B-40FDE3C8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63E0A7-91F1-427E-8CB3-39EDD798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4B80-57B1-4806-BEDE-B7428301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5924CD-1FC6-40ED-B236-FBEE93A6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6A062D-888B-42CF-B8CB-009BE991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2AE1DF-39B2-4E0B-BF9E-D2A718A2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D37D3C-2EA9-4092-8F8F-06FD9149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52460D-171D-45FE-99C2-C9467F65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3DB95E-C40A-43C1-87A8-B00DD622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236E5F-A178-4BA2-AF1F-3B24A98B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FF3817-D314-4F84-BCBE-62761C28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6FDC6B-0F24-499E-9502-5199FD06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7757E9-8FB1-4DD3-90BC-6679593D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CE1C-12F1-42A0-88D0-73DA3F53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1E4C4-E77B-49C5-9789-7E00D50F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BB3AE6-9AEA-4587-8AD0-9996A6CA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65CDBE-436E-42DB-82D3-5659B35B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8491F7-700A-470D-AFBC-7EEB07F1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DD0AF1-D09C-4B00-B20D-517AA4D2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C20CC8-A3BD-4E44-A21B-8B2E4920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A1C2A2-1884-42F7-9E70-B59E3AD5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D78F11-C087-4C48-8F7E-20F5CA53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1B2892-BA76-4796-9806-95322A3B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1346D8-291D-42D2-B26F-59BD0DAF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26073-AD9E-4DA8-A28C-F6A87CF0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C42999-A3A9-427C-804C-4D476CDF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2F3733-F301-4D62-B4DD-B1937807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F98515-EE2B-4F88-BB85-26685282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1695F3-0E09-4623-8A12-6CFAF71D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ECC8F9-EC57-4999-B444-B8EA08C2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2F0228-E498-468D-B9F6-A607B789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A5A1CC-D6B8-48A8-ABD9-1A588852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76A080-C46C-4170-BEAC-4F7A54AF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09A942-6E2B-4D7D-97FE-59C914D3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6F9C21-2384-4E76-B5DC-73867546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38A3-26BD-4D6D-887D-AE0867BF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62FB01-25D5-48F7-8D03-A7988117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EA74A1-B295-4794-9225-C84A5C69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ACF3E3-E64F-4B9B-97BF-E9B504D2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667B33-8B75-44AC-AA20-88DBAE09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26AB26-7BC1-4E4E-8C6D-F3D64BB4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DE19B9-BE1A-414C-82D0-0243E9FC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31DF40-E634-4B37-B545-F3BFDD19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97174F-E941-4A68-8EFD-DFA6131F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166977-4F8D-41CA-97EA-398FA3B5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4B5634-9E21-48EC-B5D5-621850EE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A0E53-5465-4C58-88EE-9D4B83C1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836AF9-2622-43ED-805C-D10E42B8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97970D-877D-4A0A-B12D-4AEDA3F3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6DDCBC-DC20-48C2-BA86-64E86808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A7B73C-2185-4782-8DA8-3CEDDABE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3BA0A3-516D-442E-9A61-17C2845A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14BACE-A707-4C57-89E1-A7EFC3F0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613400-16EF-43A1-8801-56CAA305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9470-86E5-4484-A6E3-507BA71A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B2AE2-DEB2-4FB5-8476-0C1B57E9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F3E-5E1F-43E4-8B99-9D2FB536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42E79-62C6-43F6-87CD-7AD5988A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99C4A-D14E-4624-9820-924F5AE4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95CA5-BB15-4087-952B-9E3CABB6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4BCD-1D88-4B93-BD47-9EBBD04A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7C69C-ECE1-4546-8731-6FB6EE51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3A8E-CAFF-491E-8011-8E51D746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21A9D-7743-4A08-9624-9CF67326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69C9D-EE6C-489E-8CE0-4CBE6350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14375-54E2-4AB2-A4B1-A3E68572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2D25D-521E-487B-8D90-E6660828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B7F-11D8-47F9-ACD0-4758DE39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AC51D-DC4E-4C09-8138-9F73A609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04C27-8F15-41F4-B1AF-B1D9B030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5F66C-4068-416E-9271-3BEE5E17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39ADE-C349-4D64-83C3-DFC54A11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01C0C-D9DB-43CF-B117-8468F9E1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B78CF-D33D-4121-97DF-7837E6B1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488F8-4BAF-4333-B40F-2B7903FC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04EE8-5D47-4BFB-8A4C-D2DACE55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39C45-8724-44F5-A81A-408263C6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D7A82-B796-4201-B49B-C9C42496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93C-F63D-428F-8CCC-CC6D9451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6309E-84D0-4BB8-B864-C471BC81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FC14E-5FFB-40E3-9152-4962AB47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072A3-307D-4B67-8693-470A9709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1D1A8-9B2B-4AEE-93B9-8D7769EB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BBC54-9021-4D3C-827B-797A6E6A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74F11-9F1F-4E6E-8655-94331B86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94419-A4A5-44BF-88AC-588912AF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89BE6-5828-4150-A055-537AFE37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2ED7B-55F7-4546-A2BD-C0AF534B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202CB-07F3-4AE4-89A9-BC27B9AB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146-117A-43F8-AEFA-E62E55F1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3D656-B5FF-48F1-8963-87D85CAB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4D456-F68A-464E-8D4B-F370A9A7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7A566-A191-47C1-9EA0-3A8BB81E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8E555-E9C2-4994-80C2-66529BDB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CB38C-AA68-47D8-BD73-66ACF382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28250-EF73-409B-8158-31310531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417D4-434D-4136-B537-5AE83043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FB2D5-1567-4F2D-9320-7930BCFF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1A75E-984B-4163-BB39-7C2C45EC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158BA-3595-42D3-B481-CDE3E156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1243-84BD-4B9D-AADB-19AABE09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526F9-D8C1-4A57-AF13-406282BE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212D0-7096-4E34-B7B4-9EF6056B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CF7E2-2D31-42FC-BF67-4CDB479D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FCFF7-34D0-4639-8469-6EB8403A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48FEE-ECE6-42ED-8C01-52950068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21280-4728-4EC0-8CA4-3A033147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90E23-D3C7-4D01-85AD-58BBC1B5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C984C-04F7-417F-9BAF-DC31A5E3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127FB-A520-4EF7-A3C0-4D08C2D4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B8479-6D72-473A-9179-317EF531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4395-2942-4114-B3A8-BA9CDC0A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EA19E-73FA-4EAF-9C6A-DA0CED5E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D976E-DCDE-4264-AD7D-A5EB89CC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37A0D-AEBF-4D0A-BFBC-5FC68481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8340E-6744-4C11-86F3-60896B52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4007D-9B74-40D7-A599-828EB5C0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860E0-FF0B-45F7-AFB3-FE2C09BC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58AE4-400B-4A96-8213-5489E8FA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1C7E0-E7FF-453B-B21D-4E230FF7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51D90-B09B-418F-BAA7-3A72FA07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6EC69-FDCB-40D4-AB78-C6B9D6E7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E407-313B-4693-98C5-F4DBED2E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F6FB9-8BE4-4BA5-999C-C03F3903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48938-FB86-4FF4-ADB8-ACDC4EAC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FD854-A992-47D0-8988-21B0E28C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2363F-DFEB-46EF-8778-426DC406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B9F01-BBF9-4A6E-85D1-A759AAA9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7A6D5-CEAF-4956-8D25-C1BA485B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3FA05-05B0-4794-B20E-9ECA673D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ABAC5-D048-40AD-BF94-9F9B3F9E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3033D-0814-450F-A334-0C2629E9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D75A7-41F7-4B14-8E6F-C989B017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BB55-75B3-4E34-B203-D704652DA0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D21A-530F-4A7F-AAE7-3CBAAF651D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DF1B-3B36-4CD2-AEC5-FC99615FCF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88BC-3662-468A-9831-D29EA83A38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2C4E-EF28-4FA1-A48D-F377853D8B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08A1-5CFA-43CF-B90F-69B22A56A8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8D98-1A74-4337-87DC-669F3D7293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EEE1-80A5-48FD-9350-A3E1D327A5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5865-0110-4CB9-9B03-1850EAAEB5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2082-3945-416C-9E55-AF2AA4C518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D546-087B-4C7D-9E67-4017EFF3AE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9FCD-4AF5-4852-8F70-F0DCAE501E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4BEC-FFBA-458D-A65B-BCF1833F5B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DCDF-C217-436F-91B7-068EF15926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7AF9-4AD7-433F-BDE1-B1F278281E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6E68-5152-41A8-863F-EDE6039C33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B001-727C-4931-A336-2096AAB5F2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CE44-E523-45D1-A011-517C1BB99E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9903-90E7-43E8-8824-53EE0A0139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C904-C55B-4BA7-9B87-EECF48440E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FCC3-B243-475F-B3A3-29BB8CF061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DF5B-DC37-4028-8F26-D1C7A73703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3BFF-5D9C-49D0-963C-11CF87184F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9BB5-104B-4A87-AD67-65ED23026E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27C5-C77B-4E90-BA25-51649B5DEB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F7C2-80B0-40B5-9338-9648C8AB19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8B4F-5DD1-46C5-896C-8659CB72B0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15DD-1399-4AA3-BCF5-244FC7D41F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BD11-8E60-4C57-873D-C61DC90C06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2842-82EC-47B4-8679-1BF9709A28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F303-1DB5-4EAF-BC11-EDBC461787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6E59-4E9D-4AB6-A9DB-7EC3A186E3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B7F2-2AF3-47DB-B30B-0ADB76E5AA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0921-E3FA-4BB9-856F-6044AC0AC0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D874-F25D-41B6-AA06-B704B7480F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6D4F-4D33-462B-8BB2-8C04AD9F57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4A7D-7F4D-4834-9403-927E291063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DAFA-6DE8-49F4-9CBC-CF17097FA1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7964-4B20-459B-A455-85A04F9F23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1E34-1660-4100-A05E-796F6814E6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B317-6147-4D80-8345-3F4A7EB62F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8616-3C8A-4D61-8536-E92407D7F5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844560" y="1727280"/>
            <a:ext cx="8067600" cy="90468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282600" y="3408480"/>
            <a:ext cx="876456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262080" y="971640"/>
            <a:ext cx="86198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561960" y="1243080"/>
            <a:ext cx="8020080" cy="4371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2"/>
          <a:stretch/>
        </p:blipFill>
        <p:spPr>
          <a:xfrm>
            <a:off x="3924360" y="206064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3"/>
          <a:stretch/>
        </p:blipFill>
        <p:spPr>
          <a:xfrm>
            <a:off x="7740720" y="206064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4"/>
          <a:stretch/>
        </p:blipFill>
        <p:spPr>
          <a:xfrm>
            <a:off x="611280" y="2751120"/>
            <a:ext cx="180000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5"/>
          <a:stretch/>
        </p:blipFill>
        <p:spPr>
          <a:xfrm>
            <a:off x="468360" y="3429000"/>
            <a:ext cx="28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6"/>
          <a:stretch/>
        </p:blipFill>
        <p:spPr>
          <a:xfrm>
            <a:off x="468360" y="4076640"/>
            <a:ext cx="28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7"/>
          <a:stretch/>
        </p:blipFill>
        <p:spPr>
          <a:xfrm>
            <a:off x="468360" y="4826160"/>
            <a:ext cx="604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204840" y="1528920"/>
            <a:ext cx="8734320" cy="38001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295128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295128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900000" y="4653000"/>
            <a:ext cx="36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237960" y="1447920"/>
            <a:ext cx="8668080" cy="39621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48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971640" y="4451400"/>
            <a:ext cx="4895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347760" y="496800"/>
            <a:ext cx="8448480" cy="6162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1116000" y="413388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1116000" y="472428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971640" y="6006960"/>
            <a:ext cx="770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209520" y="1076400"/>
            <a:ext cx="8724960" cy="4705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30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971640" y="3284640"/>
            <a:ext cx="30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042920" y="393372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971640" y="5143680"/>
            <a:ext cx="396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280836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280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900000" y="479736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900000" y="541656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7"/>
          <a:stretch/>
        </p:blipFill>
        <p:spPr>
          <a:xfrm>
            <a:off x="900000" y="6035760"/>
            <a:ext cx="619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108000" y="1012680"/>
            <a:ext cx="8928000" cy="188136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2" descr=""/>
          <p:cNvPicPr/>
          <p:nvPr/>
        </p:nvPicPr>
        <p:blipFill>
          <a:blip r:embed="rId2"/>
          <a:stretch/>
        </p:blipFill>
        <p:spPr>
          <a:xfrm>
            <a:off x="1398600" y="3711600"/>
            <a:ext cx="6734160" cy="23241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3132000" y="142704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3276720" y="191628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5940360" y="14130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6"/>
          <a:stretch/>
        </p:blipFill>
        <p:spPr>
          <a:xfrm>
            <a:off x="5796000" y="19890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7"/>
          <a:stretch/>
        </p:blipFill>
        <p:spPr>
          <a:xfrm>
            <a:off x="8394840" y="1484280"/>
            <a:ext cx="61272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8"/>
          <a:stretch/>
        </p:blipFill>
        <p:spPr>
          <a:xfrm>
            <a:off x="8388360" y="1989000"/>
            <a:ext cx="61272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9"/>
          <a:stretch/>
        </p:blipFill>
        <p:spPr>
          <a:xfrm>
            <a:off x="3160800" y="4351320"/>
            <a:ext cx="90648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10"/>
          <a:stretch/>
        </p:blipFill>
        <p:spPr>
          <a:xfrm>
            <a:off x="3132000" y="4941720"/>
            <a:ext cx="9064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1"/>
          <a:stretch/>
        </p:blipFill>
        <p:spPr>
          <a:xfrm>
            <a:off x="6372360" y="4365720"/>
            <a:ext cx="9064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2"/>
          <a:stretch/>
        </p:blipFill>
        <p:spPr>
          <a:xfrm>
            <a:off x="6372360" y="4941720"/>
            <a:ext cx="9064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31:1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